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7F6-6AD6-4023-A954-19E137A6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7D7-6FF0-42F4-A079-2028A9AD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360-BE82-471A-AF91-5B205A90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F89-5F5F-48D1-8130-538DE162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5B8-18D2-4C22-B504-292A289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A8F-E077-4B53-8D67-12664FA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E12-50A1-4C9F-8AC2-3054ABDC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ECF-A701-4AD0-A183-C52FD0EA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D1B-671C-4F69-B96F-DD20D93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EAA-B26A-44DD-90DE-F21219E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F3F-35B1-4900-ACDF-F615347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E0E-C96C-4499-A71E-6628674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74AD-A92D-40A5-94C4-E40335A04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hyperlink" Target="http://www.ingenieurbuero-becker.de/" TargetMode="External"/><Relationship Id="rId4" Type="http://schemas.openxmlformats.org/officeDocument/2006/relationships/hyperlink" Target="http://www.ingenieurbuero-becker.de/" TargetMode="External"/><Relationship Id="rId5" Type="http://schemas.openxmlformats.org/officeDocument/2006/relationships/hyperlink" Target="http://www.ingenieurbuero-becker.de/" TargetMode="External"/><Relationship Id="rId6" Type="http://schemas.openxmlformats.org/officeDocument/2006/relationships/hyperlink" Target="http://www.ingenieurbuero-becker.de/" TargetMode="External"/><Relationship Id="rId7" Type="http://schemas.openxmlformats.org/officeDocument/2006/relationships/hyperlink" Target="http://www.ingenieurbuero-becker.de/" TargetMode="External"/><Relationship Id="rId8" Type="http://schemas.openxmlformats.org/officeDocument/2006/relationships/hyperlink" Target="http://www.ingenieurbuero-becker.de/" TargetMode="External"/><Relationship Id="rId9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hyperlink" Target="http://www.ingenieurbuero-becker.de/" TargetMode="External"/><Relationship Id="rId4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ingenieurbuero-becker.de/" TargetMode="External"/><Relationship Id="rId2" Type="http://schemas.openxmlformats.org/officeDocument/2006/relationships/hyperlink" Target="http://www.ingenieurbuero-becker.de/" TargetMode="External"/><Relationship Id="rId3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</a:t>
            </a:r>
            <a:br>
              <a:rPr sz="4400"/>
            </a:b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1811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Bauherr: Stadt Zweibrüc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Ingenieurbüro für Bauwe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Dipl.-Ing. Becker Gm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2286000" cy="228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344988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FC0-1835-42C8-A067-5EDD26993DB7}" type="slidenum">
              <a:t>1</a:t>
            </a:fld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646128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lter Verbindungsw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5E2-5770-4820-9AE5-0D23C9AEEFF8}" type="slidenum">
              <a:t>10</a:t>
            </a:fld>
          </a:p>
        </p:txBody>
      </p:sp>
    </p:spTree>
  </p:cSld>
  <p:transition spd="med" advTm="5000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6461280"/>
            <a:ext cx="49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Weitsprunggrube mit Anlaufma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7CD-739D-4731-A8FD-428F3EA27F64}" type="slidenum">
              <a:t>11</a:t>
            </a:fld>
          </a:p>
        </p:txBody>
      </p:sp>
    </p:spTree>
  </p:cSld>
  <p:transition spd="med" advTm="5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461280"/>
            <a:ext cx="38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Kugelstoß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D80-15F7-4C31-997C-C51FDFC8A4D4}" type="slidenum">
              <a:t>12</a:t>
            </a:fld>
          </a:p>
        </p:txBody>
      </p:sp>
    </p:spTree>
  </p:cSld>
  <p:transition spd="med" advTm="5000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6461280"/>
            <a:ext cx="54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Weitsprunggrube (Holzeinfassung verrott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1CF-11B2-453F-B751-E190394A1C39}" type="slidenum">
              <a:t>13</a:t>
            </a:fld>
          </a:p>
        </p:txBody>
      </p:sp>
    </p:spTree>
  </p:cSld>
  <p:transition spd="med" advTm="5000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2666880"/>
            <a:ext cx="571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fbd00"/>
                </a:solidFill>
                <a:latin typeface="Arial"/>
              </a:rPr>
              <a:t>Ausfüh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fbd00"/>
                </a:solidFill>
                <a:latin typeface="Arial"/>
              </a:rPr>
              <a:t>08.10.01-20.11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fbd00"/>
                </a:solidFill>
                <a:latin typeface="Arial"/>
              </a:rPr>
              <a:t>(bis Rohplanum, Asphaltdecksch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fbd00"/>
                </a:solidFill>
                <a:latin typeface="Arial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fbd00"/>
                </a:solidFill>
                <a:latin typeface="Arial"/>
              </a:rPr>
              <a:t>04.04.02-26.04.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fbd00"/>
                </a:solidFill>
                <a:latin typeface="Arial"/>
              </a:rPr>
              <a:t>(Kunststoffbelag und Linier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2F1-2AF1-43A5-82D9-149F68BFD784}" type="slidenum">
              <a:t>14</a:t>
            </a:fld>
          </a:p>
        </p:txBody>
      </p:sp>
    </p:spTree>
  </p:cSld>
  <p:transition spd="med" advTm="8000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6461280"/>
            <a:ext cx="39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Stützmauer neu str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A41-C955-4EA4-B1DF-64A210E404F6}" type="slidenum">
              <a:t>15</a:t>
            </a:fld>
          </a:p>
        </p:txBody>
      </p:sp>
    </p:spTree>
  </p:cSld>
  <p:transition spd="med" advTm="5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6461280"/>
            <a:ext cx="2438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447920"/>
            <a:ext cx="71992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Rodungsarbei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08.10.01-10.1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rbeiten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Bäume verschiedenster Durchme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roden (146 Stück) und Hecken 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urückschneiden (84 m Länge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454-8D0A-4001-9F58-E2DF8E1158CD}" type="slidenum">
              <a:t>16</a:t>
            </a:fld>
          </a:p>
        </p:txBody>
      </p:sp>
    </p:spTree>
  </p:cSld>
  <p:transition spd="med" advTm="8000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1480" y="64612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Rodungsarb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B90-82F1-4346-954E-0E5F27AB1CEA}" type="slidenum">
              <a:t>17</a:t>
            </a:fld>
          </a:p>
        </p:txBody>
      </p:sp>
    </p:spTree>
  </p:cSld>
  <p:transition spd="med" advTm="5000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24360" y="6461280"/>
            <a:ext cx="36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rkleinerung und Ab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A7A-75C0-4F9C-AE76-ED2DC27BCF64}" type="slidenum">
              <a:t>18</a:t>
            </a:fld>
          </a:p>
        </p:txBody>
      </p:sp>
    </p:spTree>
  </p:cSld>
  <p:transition spd="med" advTm="5000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794720" y="1969920"/>
            <a:ext cx="1349280" cy="696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81480" y="64612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Rodungsarb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CBD-A97E-4B51-8A56-889C5C87D75E}" type="slidenum">
              <a:t>19</a:t>
            </a:fld>
          </a:p>
        </p:txBody>
      </p:sp>
    </p:spTree>
  </p:cSld>
  <p:transition spd="med" advTm="5000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360" y="112680"/>
            <a:ext cx="88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 u="sng">
              <a:solidFill>
                <a:srgbClr val="efbd00"/>
              </a:solidFill>
              <a:uFillTx/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4560" y="914400"/>
            <a:ext cx="6913440" cy="501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95640" y="762120"/>
            <a:ext cx="4751280" cy="514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62240" y="30481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bd00"/>
                </a:solidFill>
                <a:latin typeface="Arial"/>
              </a:rPr>
              <a:t>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0481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bd00"/>
                </a:solidFill>
                <a:latin typeface="Arial"/>
              </a:rPr>
              <a:t>präsenti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DA2-F7AD-45E4-9CFB-8864E4163BFE}" type="slidenum">
              <a:t>2</a:t>
            </a:fld>
          </a:p>
        </p:txBody>
      </p:sp>
    </p:spTree>
  </p:cSld>
  <p:transition spd="med" advTm="2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794720" y="1969920"/>
            <a:ext cx="1349280" cy="696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24360" y="6461280"/>
            <a:ext cx="36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Gerodete Bös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36A-CB34-4526-82B7-9967AC1AB70F}" type="slidenum">
              <a:t>20</a:t>
            </a:fld>
          </a:p>
        </p:txBody>
      </p:sp>
    </p:spTree>
  </p:cSld>
  <p:transition spd="med" advTm="5000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71992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Aushub- und Abbrucharbei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11.10.01-12.1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ushubarbeiten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ca. 950 m2 Erdaushu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ca. 400 m2 Rasen und Oberboden 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bt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bbrucharbeiten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orhandene Rasenkantenstei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Kugelstoßanlage und Plattenbelag 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bbrech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ADD-B96B-4B46-9436-72C1D8908417}" type="slidenum">
              <a:t>21</a:t>
            </a:fld>
          </a:p>
        </p:txBody>
      </p:sp>
    </p:spTree>
  </p:cSld>
  <p:transition spd="med" advTm="8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ufnahme und Abtrag des alten Tennenbel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73C-5C1A-433E-800B-599854D88DBA}" type="slidenum">
              <a:t>22</a:t>
            </a:fld>
          </a:p>
        </p:txBody>
      </p:sp>
    </p:spTree>
  </p:cSld>
  <p:transition spd="med" advTm="5000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6461280"/>
            <a:ext cx="62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btrag der vorhandenen Grasnar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27F-9C8D-4B6F-B4A4-7225BB4C9FCC}" type="slidenum">
              <a:t>23</a:t>
            </a:fld>
          </a:p>
        </p:txBody>
      </p:sp>
    </p:spTree>
  </p:cSld>
  <p:transition spd="med" advTm="5000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461280"/>
            <a:ext cx="52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rkleinerung des alten Kugelstoßri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6B5-1D89-43A3-9836-F2FA8937B772}" type="slidenum">
              <a:t>24</a:t>
            </a:fld>
          </a:p>
        </p:txBody>
      </p:sp>
    </p:spTree>
  </p:cSld>
  <p:transition spd="med" advTm="5000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27280" y="6461280"/>
            <a:ext cx="49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ushub im Einfahrtsber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0D6-1FD0-42A6-AD0E-68E103DE1375}" type="slidenum">
              <a:t>25</a:t>
            </a:fld>
          </a:p>
        </p:txBody>
      </p:sp>
    </p:spTree>
  </p:cSld>
  <p:transition spd="med" advTm="5000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646128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94720" y="1969920"/>
            <a:ext cx="1349280" cy="696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04920" y="1447920"/>
            <a:ext cx="71992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Vorarbeiten Sportgelä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16.10.01-25.1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rbeiten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Drainage, Rinne und Randeinfas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herstell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150 m2 Mutterboden einbau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48B-C787-40DF-9690-B9F97B907867}" type="slidenum">
              <a:t>26</a:t>
            </a:fld>
          </a:p>
        </p:txBody>
      </p:sp>
    </p:spTree>
  </p:cSld>
  <p:transition spd="med" advTm="8000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6461280"/>
            <a:ext cx="70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Schnitt „Aufbau Sportanla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222" name="Schnitt" descr=""/>
          <p:cNvPicPr/>
          <p:nvPr/>
        </p:nvPicPr>
        <p:blipFill>
          <a:blip r:embed="rId3"/>
          <a:stretch/>
        </p:blipFill>
        <p:spPr>
          <a:xfrm>
            <a:off x="228600" y="1535040"/>
            <a:ext cx="731520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AAE-9F51-4381-8CD7-B4EB51CBCEB2}" type="slidenum">
              <a:t>27</a:t>
            </a:fld>
          </a:p>
        </p:txBody>
      </p:sp>
    </p:spTree>
  </p:cSld>
  <p:transition spd="med" advTm="5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6461280"/>
            <a:ext cx="70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ushub und Herstellung des neuen Drainagegrab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7AC-C482-4094-AE8F-BAFBA21C2A8F}" type="slidenum">
              <a:t>28</a:t>
            </a:fld>
          </a:p>
        </p:txBody>
      </p:sp>
    </p:spTree>
  </p:cSld>
  <p:transition spd="med" advTm="5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3EA-5246-4720-B34C-8888853937A4}" type="slidenum">
              <a:t>29</a:t>
            </a:fld>
          </a:p>
        </p:txBody>
      </p:sp>
    </p:spTree>
  </p:cSld>
  <p:transition spd="med" advTm="5000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48720" y="487692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7391520" cy="537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020-D0D3-46F8-A263-98E41A0A1954}" type="slidenum">
              <a:t>3</a:t>
            </a:fld>
          </a:p>
        </p:txBody>
      </p:sp>
    </p:spTree>
  </p:cSld>
  <p:transition spd="med" advTm="5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6461280"/>
            <a:ext cx="64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orarbeiten zur umlaufenden Tiefbordeinfas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794720" y="1969920"/>
            <a:ext cx="1349280" cy="696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CAF-C436-4BBD-9025-C5022DC43D0B}" type="slidenum">
              <a:t>30</a:t>
            </a:fld>
          </a:p>
        </p:txBody>
      </p:sp>
    </p:spTree>
  </p:cSld>
  <p:transition spd="med" advTm="5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Herstellung der Muldenri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7D2-C9B6-45B0-897B-AA35CD7CBCF7}" type="slidenum">
              <a:t>31</a:t>
            </a:fld>
          </a:p>
        </p:txBody>
      </p:sp>
    </p:spTree>
  </p:cSld>
  <p:transition spd="med" advTm="5000"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Einlaufkasten Muldenri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794720" y="1969920"/>
            <a:ext cx="1349280" cy="696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498-265A-42D4-A4B1-3E82392A0245}" type="slidenum">
              <a:t>32</a:t>
            </a:fld>
          </a:p>
        </p:txBody>
      </p:sp>
    </p:spTree>
  </p:cSld>
  <p:transition spd="med" advTm="5000"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646128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Einfassung der Sprunggrube mit Elastik-Randstei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CAD-EABD-46B2-B760-547A0AA9C80A}" type="slidenum">
              <a:t>33</a:t>
            </a:fld>
          </a:p>
        </p:txBody>
      </p:sp>
    </p:spTree>
  </p:cSld>
  <p:transition spd="med" advTm="5000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24000" y="6461280"/>
            <a:ext cx="54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erfüllen der Außenflächen mit Mutterbo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2AE-20B5-4DDB-8ECE-45CE4B28AF50}" type="slidenum">
              <a:t>34</a:t>
            </a:fld>
          </a:p>
        </p:txBody>
      </p:sp>
    </p:spTree>
  </p:cSld>
  <p:transition spd="med" advTm="5000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6461280"/>
            <a:ext cx="480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447920"/>
            <a:ext cx="71992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Fortführende Arbeiten Sportgelä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26.10.01-07.11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rbeiten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ca. 660 m2 Schottertragsch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und Sprunggrube herstell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ca. 660 m2 Asphaltdecksch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her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7BC-C863-4ED7-B180-4A67E29B9D29}" type="slidenum">
              <a:t>35</a:t>
            </a:fld>
          </a:p>
        </p:txBody>
      </p:sp>
    </p:spTree>
  </p:cSld>
  <p:transition spd="med" advTm="8000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6461280"/>
            <a:ext cx="68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nlieferung Schotter und Flusssand (Weitsprunggrub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BD1-5C2C-4DA7-929B-4386EBDB8D79}" type="slidenum">
              <a:t>36</a:t>
            </a:fld>
          </a:p>
        </p:txBody>
      </p:sp>
    </p:spTree>
  </p:cSld>
  <p:transition spd="med" advTm="5000"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nsicht Weitsprunggr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426-12A8-4106-830E-1CF97ED4A3AF}" type="slidenum">
              <a:t>37</a:t>
            </a:fld>
          </a:p>
        </p:txBody>
      </p:sp>
    </p:spTree>
  </p:cSld>
  <p:transition spd="med" advTm="5000"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Feinplanum Sportgelä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E7B-9BCA-4273-BC00-F3528CBA577A}" type="slidenum">
              <a:t>38</a:t>
            </a:fld>
          </a:p>
        </p:txBody>
      </p:sp>
    </p:spTree>
  </p:cSld>
  <p:transition spd="med" advTm="5000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64612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Herstellen der gebundenen wasserdurchlässigen Tragsch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403-174C-4B62-8998-CD190BCA64C7}" type="slidenum">
              <a:t>39</a:t>
            </a:fld>
          </a:p>
        </p:txBody>
      </p:sp>
    </p:spTree>
  </p:cSld>
  <p:transition spd="med" advTm="5000"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48720" y="487692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9051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447920"/>
            <a:ext cx="719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inweis zur Bedien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Diese Präsentation ist selbstablaufend, d.h. einmal gestartet läuft sie bis zum Schluß du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63" name="Bedienung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1994040" cy="2540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3200400"/>
            <a:ext cx="3657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Wenn Sie jedoch ein Bild oder einen Text länger ansehen bzw. lesen woll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ücken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 sie d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hte Maustaste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 und es erscheint folge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igationsmenü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, mit dem Sie die Präsentation anhalten, fortfahren  oder auch vor und zurück springen kön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9EA-2D29-4488-A03F-17EAB8529E5C}" type="slidenum">
              <a:t>4</a:t>
            </a:fld>
          </a:p>
        </p:txBody>
      </p:sp>
    </p:spTree>
  </p:cSld>
  <p:transition spd="med" advTm="13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Herstellen der Asphaltdecksch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822-2BD0-4E01-A54A-AE0D96C281A6}" type="slidenum">
              <a:t>40</a:t>
            </a:fld>
          </a:p>
        </p:txBody>
      </p:sp>
    </p:spTree>
  </p:cSld>
  <p:transition spd="med" advTm="5000"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sphalt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FC3-FE09-4811-A2AA-12FEB39E38D7}" type="slidenum">
              <a:t>41</a:t>
            </a:fld>
          </a:p>
        </p:txBody>
      </p:sp>
    </p:spTree>
  </p:cSld>
  <p:transition spd="med" advTm="5000"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Walzen der Asphaltsch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B5C-C022-416C-8CDD-422D4955DE77}" type="slidenum">
              <a:t>42</a:t>
            </a:fld>
          </a:p>
        </p:txBody>
      </p:sp>
    </p:spTree>
  </p:cSld>
  <p:transition spd="med" advTm="5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sphalt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873-3B08-4D85-BCD8-E81F9E19BA48}" type="slidenum">
              <a:t>43</a:t>
            </a:fld>
          </a:p>
        </p:txBody>
      </p:sp>
    </p:spTree>
  </p:cSld>
  <p:transition spd="med" advTm="5000"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6461280"/>
            <a:ext cx="58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Einbau der Einbauwannen für Absprungbal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3F4-2515-431E-A340-F13F367B0ED0}" type="slidenum">
              <a:t>44</a:t>
            </a:fld>
          </a:p>
        </p:txBody>
      </p:sp>
    </p:spTree>
  </p:cSld>
  <p:transition spd="med" advTm="5000"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447920"/>
            <a:ext cx="7199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fbd00"/>
                </a:solidFill>
                <a:latin typeface="Arial"/>
              </a:rPr>
              <a:t>Vorarbeiten für Gehwege und Pflasterfläche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08.11.01-16.11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rbeiten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Sickerschacht setz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210 m2 Schotterplanum erstelle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Planum für Pflaster er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90B-81B1-4084-BB1B-B39AF7274A42}" type="slidenum">
              <a:t>45</a:t>
            </a:fld>
          </a:p>
        </p:txBody>
      </p:sp>
    </p:spTree>
  </p:cSld>
  <p:transition spd="med" advTm="8000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6461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erlegen der Parkettpflastersteine auf 4-6 cm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845-EAB3-4FE1-A280-029AF7E171C2}" type="slidenum">
              <a:t>46</a:t>
            </a:fld>
          </a:p>
        </p:txBody>
      </p:sp>
    </p:spTree>
  </p:cSld>
  <p:transition spd="med" advTm="5000"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6461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Sickerschacht DN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F1A-38C0-4316-8A81-000487D945A4}" type="slidenum">
              <a:t>47</a:t>
            </a:fld>
          </a:p>
        </p:txBody>
      </p:sp>
    </p:spTree>
  </p:cSld>
  <p:transition spd="med" advTm="5000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76520" y="6461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Splitschicht im Einfahrtsbereich (Pflasterarbei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FCD-783E-4AEA-9338-6DF9D707B7CF}" type="slidenum">
              <a:t>48</a:t>
            </a:fld>
          </a:p>
        </p:txBody>
      </p:sp>
    </p:spTree>
  </p:cSld>
  <p:transition spd="med" advTm="5000"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6461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Pflasterarbeite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1447920"/>
            <a:ext cx="71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Pflasterarbeite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19.11.01-20.11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rbeiten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210 m2 Pflaster in Wegen und 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Einfahrt verl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272-4434-41A7-B84B-B9CDA738E054}" type="slidenum">
              <a:t>49</a:t>
            </a:fld>
          </a:p>
        </p:txBody>
      </p:sp>
    </p:spTree>
  </p:cSld>
  <p:transition spd="med" advTm="8000"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48720" y="487692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80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19051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447920"/>
            <a:ext cx="7199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Wissenswer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Bauort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auptschule West, Mozartstraße 1,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Zweibrüc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Bauherr: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Stadt Zweibrüc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Dezernat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Beigeordneter: Herr Fran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Stadtbauamt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Lei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des Stadtbauamtes: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err Attm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bteiltungslei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ochbau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err Kess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Projektbearbeiter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err Ma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C68-6B3A-483D-B461-AB674568B519}" type="slidenum">
              <a:t>5</a:t>
            </a:fld>
          </a:p>
        </p:txBody>
      </p:sp>
    </p:spTree>
  </p:cSld>
  <p:transition spd="med" advTm="8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6461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Neuer Verbindungsw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21E-25F1-43D6-A822-6D52E65C6250}" type="slidenum">
              <a:t>50</a:t>
            </a:fld>
          </a:p>
        </p:txBody>
      </p:sp>
    </p:spTree>
  </p:cSld>
  <p:transition spd="med" advTm="5000"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1447920"/>
            <a:ext cx="71992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Winterunterbrech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ufgrund der Temperaturen und Luftfeuchte mussten die Arbeiten zur Herstellung des Kunststoffbelages bis zum Winterende verschoben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F7F-CB82-4FA0-8613-4E8FBAC1289B}" type="slidenum">
              <a:t>51</a:t>
            </a:fld>
          </a:p>
        </p:txBody>
      </p:sp>
    </p:spTree>
  </p:cSld>
  <p:transition spd="med" advTm="8000">
    <p:dissolv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914400"/>
            <a:ext cx="719928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fbd00"/>
                </a:solidFill>
                <a:latin typeface="Arial"/>
              </a:rPr>
              <a:t>Kunststoffbelag / Linieru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04.04.02 / 22.04.02 / 26.04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rbeiten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erstellen der 1. Lage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(wasserdurchlässig, 660 m2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schwarzes polyurethangebundenes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Gummigranulat, Dicke ca. 10 mm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nschließend Trocken- und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ushärtezeit für schwarzen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Bela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erstellen der 2. 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(rotes polyurethangebund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EPDM Gummigranulat, Dicke 5 m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nschließend Trocken- und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ushärtezeit und abschließende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Linier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720-CDC9-48D7-8CE6-98F5089E8DC3}" type="slidenum">
              <a:t>52</a:t>
            </a:fld>
          </a:p>
        </p:txBody>
      </p:sp>
    </p:spTree>
  </p:cSld>
  <p:transition spd="med" advTm="13000"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28600" y="64612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1.Lage: schwarzes Gummigranulat, Ortseinbauverfa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6AE-A265-4D8E-A43B-05105AA34C4A}" type="slidenum">
              <a:t>53</a:t>
            </a:fld>
          </a:p>
        </p:txBody>
      </p:sp>
    </p:spTree>
  </p:cSld>
  <p:transition spd="med" advTm="5000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2860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2.Lage: rotes EPDM Gummigranulat, Ortseinbauverfa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CA9-1F3A-408F-9F12-1ABE06534E2E}" type="slidenum">
              <a:t>54</a:t>
            </a:fld>
          </a:p>
        </p:txBody>
      </p:sp>
    </p:spTree>
  </p:cSld>
  <p:transition spd="med" advTm="5000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2860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Teilan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A73-FC4E-4687-84F2-540C51EFFF27}" type="slidenum">
              <a:t>55</a:t>
            </a:fld>
          </a:p>
        </p:txBody>
      </p:sp>
    </p:spTree>
  </p:cSld>
  <p:transition spd="med" advTm="5000"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2860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bschluss Kunststoffbe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5DB-7257-436B-ABFD-E1E80E73CC54}" type="slidenum">
              <a:t>56</a:t>
            </a:fld>
          </a:p>
        </p:txBody>
      </p:sp>
    </p:spTree>
  </p:cSld>
  <p:transition spd="med" advTm="5000">
    <p:dissolv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2860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Linierungsarbeite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A00-987E-4C14-99A7-6586FADD79C9}" type="slidenum">
              <a:t>57</a:t>
            </a:fld>
          </a:p>
        </p:txBody>
      </p:sp>
    </p:spTree>
  </p:cSld>
  <p:transition spd="med" advTm="5000"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2860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Linierungsarbeite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7B3-1CFB-44D8-A3A3-EE233AED3A1F}" type="slidenum">
              <a:t>58</a:t>
            </a:fld>
          </a:p>
        </p:txBody>
      </p:sp>
    </p:spTree>
  </p:cSld>
  <p:transition spd="med" advTm="5000"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1447920"/>
            <a:ext cx="7199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Installation der verschiedenen Sportgerät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Zeitraum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15.05.02-16.05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rbeiten: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ufbau der Volleyballanlage und der 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Basketballan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3B2-ABA0-4A36-A765-63D29E966D65}" type="slidenum">
              <a:t>59</a:t>
            </a:fld>
          </a:p>
        </p:txBody>
      </p:sp>
    </p:spTree>
  </p:cSld>
  <p:transition spd="med" advTm="8000"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48720" y="487692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19051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447920"/>
            <a:ext cx="7199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Wissenswer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Planer: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Ingenieurbüro für Bauwe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Dipl.-Ing. Becker Gmb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usführende Baufirma:  Gebr. Becker Sportanlagen GmbH,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Taunusstein Ha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Kosten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ca. 90 000,- 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Bauzeiten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Oktober / Novemb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pril /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Einweihung: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Juni 200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E2B-925C-4D1D-9086-155208ADDFA4}" type="slidenum">
              <a:t>6</a:t>
            </a:fld>
          </a:p>
        </p:txBody>
      </p:sp>
    </p:spTree>
  </p:cSld>
  <p:transition spd="med" advTm="8000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28600" y="64612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olleyballan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E16-278F-4F71-98F9-D2B8CBF9CD6B}" type="slidenum">
              <a:t>60</a:t>
            </a:fld>
          </a:p>
        </p:txBody>
      </p:sp>
    </p:spTree>
  </p:cSld>
  <p:transition spd="med" advTm="5000"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228600" y="64612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Basketballan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C3C-411B-40CE-8AD6-3175B0F78B7D}" type="slidenum">
              <a:t>61</a:t>
            </a:fld>
          </a:p>
        </p:txBody>
      </p:sp>
    </p:spTree>
  </p:cSld>
  <p:transition spd="med" advTm="5000"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447920"/>
            <a:ext cx="7199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Übergabe an die Stadt Zweibrüc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m 24.05.02 wurde die neue Anlage von den verschiedenen Vertretern besichtigt und abgenommen. Somit konnte ab diesem Zeitpunkt die Anlage dem Schulsport seiner Bestimmung übergeben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851-C6B7-4E27-830C-BE79C503D3F5}" type="slidenum">
              <a:t>62</a:t>
            </a:fld>
          </a:p>
        </p:txBody>
      </p:sp>
    </p:spTree>
  </p:cSld>
  <p:transition spd="med" advTm="8000">
    <p:dissolv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28600" y="6461280"/>
            <a:ext cx="7391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Nutzflächen" descr=""/>
          <p:cNvPicPr/>
          <p:nvPr/>
        </p:nvPicPr>
        <p:blipFill>
          <a:blip r:embed="rId3"/>
          <a:stretch/>
        </p:blipFill>
        <p:spPr>
          <a:xfrm>
            <a:off x="228600" y="2286000"/>
            <a:ext cx="7315200" cy="27082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8088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Nutzfl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9BE-FC47-4358-802C-FD927FA02AD4}" type="slidenum">
              <a:t>63</a:t>
            </a:fld>
          </a:p>
        </p:txBody>
      </p:sp>
    </p:spTree>
  </p:cSld>
  <p:transition spd="med" advTm="5000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28600" y="6461280"/>
            <a:ext cx="7391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516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4612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nsicht Weitsprungan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DEB-8B62-46CC-A0E9-500CAF7B8771}" type="slidenum">
              <a:t>64</a:t>
            </a:fld>
          </a:p>
        </p:txBody>
      </p:sp>
    </p:spTree>
  </p:cSld>
  <p:transition spd="med" advTm="5000">
    <p:dissolv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nsicht Multifunktionsf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62F-7F79-4F0C-ABAE-F3D0CF0311E3}" type="slidenum">
              <a:t>65</a:t>
            </a:fld>
          </a:p>
        </p:txBody>
      </p:sp>
    </p:spTree>
  </p:cSld>
  <p:transition spd="med" advTm="5000"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1447920"/>
            <a:ext cx="7199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fbd00"/>
                </a:solidFill>
                <a:latin typeface="Arial"/>
              </a:rPr>
              <a:t>Offizielle Einweihung am 20.06.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Anwese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r. Schuldezernent Franzen, Stadt Zweibrüc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r. Ehrmanntraut, Schulleiter der Haupt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r. Verle, Sportfachleiter der Hauptsch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Hr. Koch und Herr Bohl, Ingenieurbüro Becker Gmb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Lehrer, Schüler und weitere Gä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E24-1F01-4863-A6DA-201AD66126C4}" type="slidenum">
              <a:t>66</a:t>
            </a:fld>
          </a:p>
        </p:txBody>
      </p:sp>
    </p:spTree>
  </p:cSld>
  <p:transition spd="med" advTm="8000">
    <p:dissolv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Einweihungsf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86C-CC6E-41BC-A9B4-F68C95DCA139}" type="slidenum">
              <a:t>67</a:t>
            </a:fld>
          </a:p>
        </p:txBody>
      </p:sp>
    </p:spTree>
  </p:cSld>
  <p:transition spd="med" advTm="5000">
    <p:dissolv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Interessierte Zuhö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EB7-FEC8-4270-A124-649278237AE7}" type="slidenum">
              <a:t>68</a:t>
            </a:fld>
          </a:p>
        </p:txBody>
      </p:sp>
    </p:spTree>
  </p:cSld>
  <p:transition spd="med" advTm="5000">
    <p:dissolv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Musikalische Darbietung der Schü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39F-92B4-494A-97C6-A2036AC14605}" type="slidenum">
              <a:t>69</a:t>
            </a:fld>
          </a:p>
        </p:txBody>
      </p:sp>
    </p:spTree>
  </p:cSld>
  <p:transition spd="med" advTm="5000">
    <p:dissolv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666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bd00"/>
                </a:solidFill>
                <a:latin typeface="Arial"/>
              </a:rPr>
              <a:t>Vorh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bd00"/>
                </a:solidFill>
                <a:latin typeface="Arial"/>
              </a:rPr>
              <a:t>Altes Sportgelä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698-C508-4270-ADA0-51945E696172}" type="slidenum">
              <a:t>7</a:t>
            </a:fld>
          </a:p>
        </p:txBody>
      </p:sp>
    </p:spTree>
  </p:cSld>
  <p:transition spd="med" advTm="5000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orführung der Anlagen - Weitsp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E4E-6034-4DC6-A023-5C24F2629169}" type="slidenum">
              <a:t>70</a:t>
            </a:fld>
          </a:p>
        </p:txBody>
      </p:sp>
    </p:spTree>
  </p:cSld>
  <p:transition spd="med" advTm="5000"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Vorführung der Anlagen - Street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6D0-3948-4348-AD4F-9AC39C41A62B}" type="slidenum">
              <a:t>71</a:t>
            </a:fld>
          </a:p>
        </p:txBody>
      </p:sp>
    </p:spTree>
  </p:cSld>
  <p:transition spd="med" advTm="5000"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orführung der Anlagen - S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554-6FDE-481A-AB78-51E198E9C0CE}" type="slidenum">
              <a:t>72</a:t>
            </a:fld>
          </a:p>
        </p:txBody>
      </p:sp>
    </p:spTree>
  </p:cSld>
  <p:transition spd="med" advTm="5000"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orführung der Anlagen - Volley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713-D9E1-4607-9B06-7F9B29F7A98A}" type="slidenum">
              <a:t>73</a:t>
            </a:fld>
          </a:p>
        </p:txBody>
      </p:sp>
    </p:spTree>
  </p:cSld>
  <p:transition spd="med" advTm="5000">
    <p:dissolv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Vorführung der Anlagen - Hürdenl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49A-6324-4EFD-AF1E-4889930E32BC}" type="slidenum">
              <a:t>74</a:t>
            </a:fld>
          </a:p>
        </p:txBody>
      </p:sp>
    </p:spTree>
  </p:cSld>
  <p:transition spd="med" advTm="5000">
    <p:dissolv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DJ „Hausmeister“ Lehberg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684-BA6B-4076-86B5-74BBB966388B}" type="slidenum">
              <a:t>75</a:t>
            </a:fld>
          </a:p>
        </p:txBody>
      </p:sp>
    </p:spTree>
  </p:cSld>
  <p:transition spd="med" advTm="5000"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228600" y="895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6454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Interess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2A7-251B-44B0-AD36-CF80258F5F18}" type="slidenum">
              <a:t>76</a:t>
            </a:fld>
          </a:p>
        </p:txBody>
      </p:sp>
    </p:spTree>
  </p:cSld>
  <p:transition spd="med" advTm="5000"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68" name="750-zeitung2" descr=""/>
          <p:cNvPicPr/>
          <p:nvPr/>
        </p:nvPicPr>
        <p:blipFill>
          <a:blip r:embed="rId3"/>
          <a:stretch/>
        </p:blipFill>
        <p:spPr>
          <a:xfrm>
            <a:off x="2514600" y="1393920"/>
            <a:ext cx="3657600" cy="54640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593720" y="914400"/>
            <a:ext cx="53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Pressemitteilung: Pfälzischer Merkur 27.06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BA6-A39F-434A-A6C2-51087DA503CB}" type="slidenum">
              <a:t>77</a:t>
            </a:fld>
          </a:p>
        </p:txBody>
      </p:sp>
    </p:spTree>
  </p:cSld>
  <p:transition spd="med" advTm="5000">
    <p:dissolv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75" name="750-zeitung1" descr=""/>
          <p:cNvPicPr/>
          <p:nvPr/>
        </p:nvPicPr>
        <p:blipFill>
          <a:blip r:embed="rId3"/>
          <a:stretch/>
        </p:blipFill>
        <p:spPr>
          <a:xfrm>
            <a:off x="2514600" y="1901880"/>
            <a:ext cx="3657600" cy="44798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669680" y="1219320"/>
            <a:ext cx="53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Pressemitteilung: Pfälzischer Merkur 27.06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AEB-7F75-4C17-9FA9-8A00DDFDD8BC}" type="slidenum">
              <a:t>78</a:t>
            </a:fld>
          </a:p>
        </p:txBody>
      </p:sp>
    </p:spTree>
  </p:cSld>
  <p:transition spd="med" advTm="5000"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04920" y="1447920"/>
            <a:ext cx="71992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bd00"/>
                </a:solidFill>
                <a:latin typeface="Arial"/>
              </a:rPr>
              <a:t>Wir bedanken uns für die gute Zusammenarbe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1D9-456C-42CA-828A-845B555B4E21}" type="slidenum">
              <a:t>79</a:t>
            </a:fld>
          </a:p>
        </p:txBody>
      </p:sp>
    </p:spTree>
  </p:cSld>
  <p:transition spd="med"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2360" y="6461280"/>
            <a:ext cx="41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Ehemaliges Schulsportgelä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909720"/>
            <a:ext cx="7296120" cy="54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FD3-9366-4B12-9980-12E5BCC91167}" type="slidenum">
              <a:t>8</a:t>
            </a:fld>
          </a:p>
        </p:txBody>
      </p:sp>
    </p:spTree>
  </p:cSld>
  <p:transition spd="med" advTm="5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04920" y="1447920"/>
            <a:ext cx="719928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fbd00"/>
                </a:solidFill>
                <a:latin typeface="Arial"/>
              </a:rPr>
              <a:t>Erstellt v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Sascha Heidenr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Erik Bo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Frank B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ingenieurbuero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-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becker</a:t>
            </a: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kontakt@ingenieurbuero-becker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20F-830D-472C-BFA7-BF9C2709B7C5}" type="slidenum">
              <a:t>80</a:t>
            </a:fld>
          </a:p>
        </p:txBody>
      </p:sp>
    </p:spTree>
  </p:cSld>
  <p:transition spd="med" advTm="8000"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04920" y="1447920"/>
            <a:ext cx="719928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fbd00"/>
                </a:solidFill>
                <a:latin typeface="Arial"/>
              </a:rPr>
              <a:t>Impress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Ingenieurbüro für Bauwe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Dipl.-Ing. Becker GmbH</a:t>
            </a:r>
            <a:r>
              <a:rPr b="0" lang="de-DE" sz="3200" spc="-1" strike="noStrike">
                <a:solidFill>
                  <a:srgbClr val="efbd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Dellfeldstraß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66851 Queidersb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Tel: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06371 18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Fax: 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06371 157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ingenieurbuero-becker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fbd00"/>
                </a:solidFill>
                <a:latin typeface="Arial"/>
              </a:rPr>
              <a:t>kontakt@ingenieurbuero-becker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DCC-AF06-48E9-A892-A7E3714C7F07}" type="slidenum">
              <a:t>81</a:t>
            </a:fld>
          </a:p>
        </p:txBody>
      </p:sp>
    </p:spTree>
  </p:cSld>
  <p:transition spd="med" advTm="8000">
    <p:dissolv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01600" y="2708280"/>
            <a:ext cx="693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fbd00"/>
                </a:solidFill>
                <a:latin typeface="Arial"/>
              </a:rPr>
              <a:t>Besuchen Sie unsere Website un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ingenieurbuero-becker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67E-4FF6-46D1-B2FA-8E3DA735B0B8}" type="slidenum">
              <a:t>82</a:t>
            </a:fld>
          </a:p>
        </p:txBody>
      </p:sp>
    </p:spTree>
  </p:cSld>
  <p:transition spd="med" advTm="5000"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195640" y="1233360"/>
            <a:ext cx="475128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729-4A01-4EB0-95B0-0107388EB6D8}" type="slidenum">
              <a:t>83</a:t>
            </a:fld>
          </a:p>
        </p:txBody>
      </p:sp>
    </p:spTree>
  </p:cSld>
  <p:transition spd="med" advTm="5000"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826920" y="1368360"/>
            <a:ext cx="691380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15B-C79C-4527-A53D-438E34A64089}" type="slidenum">
              <a:t>84</a:t>
            </a:fld>
          </a:p>
        </p:txBody>
      </p:sp>
    </p:spTree>
  </p:cSld>
  <p:transition spd="med" advTm="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360" y="1519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fbd00"/>
                </a:solidFill>
                <a:uFillTx/>
                <a:latin typeface="Arial"/>
              </a:rPr>
              <a:t>Freisportanlage Hauptschule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0574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36760" y="1905120"/>
            <a:ext cx="497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6461280"/>
            <a:ext cx="53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d00"/>
                </a:solidFill>
                <a:latin typeface="Arial"/>
              </a:rPr>
              <a:t>Anlaufmatten Weitsprung u. Kugelstoß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772400" y="155736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848720" y="479736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FDA-540A-4528-866B-8C4D10FFFE2D}" type="slidenum">
              <a:t>9</a:t>
            </a:fld>
          </a:p>
        </p:txBody>
      </p:sp>
    </p:spTree>
  </p:cSld>
  <p:transition spd="med" advTm="5000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08:01:20Z</dcterms:created>
  <dc:creator>Becker</dc:creator>
  <dc:description/>
  <dc:language>en-US</dc:language>
  <cp:lastModifiedBy>Becker</cp:lastModifiedBy>
  <dcterms:modified xsi:type="dcterms:W3CDTF">2002-09-09T13:25:56Z</dcterms:modified>
  <cp:revision>32</cp:revision>
  <dc:subject/>
  <dc:title>Freisportanlage  Hauptschule West</dc:title>
</cp:coreProperties>
</file>